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or.wav" ContentType="audio/x-wav"/>
  <Override PartName="/ppt/media/image1.jpeg" ContentType="image/jpeg"/>
  <Override PartName="/ppt/media/image2.png" ContentType="image/png"/>
  <Override PartName="/ppt/media/image3.jpeg" ContentType="image/jpeg"/>
  <Override PartName="/ppt/media/timesup%5B1%5D.wav" ContentType="audio/x-wav"/>
  <Override PartName="/ppt/media/image4.jpeg" ContentType="image/jpeg"/>
  <Override PartName="/ppt/media/thinktheme%5B1%5D.wav" ContentType="audio/x-wav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EE96-3580-4E70-8282-87F6FBA623B9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A.  What is it like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B.  How do people relate to the physical world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C.  How do people, goods, and ideas move from one location to another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D.  Where is it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E.  How are places similar or different?</a:t>
            </a: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73BA-16CC-46B3-A243-DC574D5C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C679-613E-48D8-9EC2-708FD683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FBD3-4AA4-4009-9107-727B3EC0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5BC4-305F-4AE4-92D7-B4A68144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8D0E-FFA6-49DD-8B3F-232EE61E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316F-FC98-4BDB-8731-4577803B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86A4-9724-4D2E-AE03-329D735C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AA45-E30B-4579-99EA-754141B9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A1A8-1BF8-4267-A1CE-58DE8680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9F3C-4EBE-452E-B70F-05205C88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F52C-B223-4D6B-9EE3-29FAD99A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EC30-B7FA-4E7D-B385-873E9B14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05FD-A01E-4B76-A4BC-0D4ADD0C2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or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" Target="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13.xml"/><Relationship Id="rId16" Type="http://schemas.openxmlformats.org/officeDocument/2006/relationships/slide" Target="slide18.xml"/><Relationship Id="rId17" Type="http://schemas.openxmlformats.org/officeDocument/2006/relationships/slide" Target="slide23.xml"/><Relationship Id="rId18" Type="http://schemas.openxmlformats.org/officeDocument/2006/relationships/slide" Target="slide9.xml"/><Relationship Id="rId19" Type="http://schemas.openxmlformats.org/officeDocument/2006/relationships/slide" Target="slide9.xml"/><Relationship Id="rId20" Type="http://schemas.openxmlformats.org/officeDocument/2006/relationships/slide" Target="slide14.xml"/><Relationship Id="rId21" Type="http://schemas.openxmlformats.org/officeDocument/2006/relationships/slide" Target="slide19.xml"/><Relationship Id="rId22" Type="http://schemas.openxmlformats.org/officeDocument/2006/relationships/slide" Target="slide24.xml"/><Relationship Id="rId23" Type="http://schemas.openxmlformats.org/officeDocument/2006/relationships/slide" Target="slide14.xml"/><Relationship Id="rId24" Type="http://schemas.openxmlformats.org/officeDocument/2006/relationships/slide" Target="slide15.xml"/><Relationship Id="rId25" Type="http://schemas.openxmlformats.org/officeDocument/2006/relationships/slide" Target="slide20.xml"/><Relationship Id="rId26" Type="http://schemas.openxmlformats.org/officeDocument/2006/relationships/slide" Target="slide20.xml"/><Relationship Id="rId27" Type="http://schemas.openxmlformats.org/officeDocument/2006/relationships/slide" Target="slide25.xml"/><Relationship Id="rId28" Type="http://schemas.openxmlformats.org/officeDocument/2006/relationships/slide" Target="slide25.xml"/><Relationship Id="rId29" Type="http://schemas.openxmlformats.org/officeDocument/2006/relationships/slide" Target="slide10.xml"/><Relationship Id="rId30" Type="http://schemas.openxmlformats.org/officeDocument/2006/relationships/slide" Target="slide10.xml"/><Relationship Id="rId31" Type="http://schemas.openxmlformats.org/officeDocument/2006/relationships/slide" Target="slide11.xml"/><Relationship Id="rId32" Type="http://schemas.openxmlformats.org/officeDocument/2006/relationships/slide" Target="slide11.xml"/><Relationship Id="rId33" Type="http://schemas.openxmlformats.org/officeDocument/2006/relationships/slide" Target="slide16.xml"/><Relationship Id="rId34" Type="http://schemas.openxmlformats.org/officeDocument/2006/relationships/slide" Target="slide21.xml"/><Relationship Id="rId35" Type="http://schemas.openxmlformats.org/officeDocument/2006/relationships/slide" Target="slide26.xml"/><Relationship Id="rId36" Type="http://schemas.openxmlformats.org/officeDocument/2006/relationships/slide" Target="slide17.xml"/><Relationship Id="rId37" Type="http://schemas.openxmlformats.org/officeDocument/2006/relationships/slide" Target="slide22.xml"/><Relationship Id="rId38" Type="http://schemas.openxmlformats.org/officeDocument/2006/relationships/slide" Target="slide27.xml"/><Relationship Id="rId39" Type="http://schemas.openxmlformats.org/officeDocument/2006/relationships/slide" Target="slide12.xml"/><Relationship Id="rId40" Type="http://schemas.openxmlformats.org/officeDocument/2006/relationships/slide" Target="slide32.xml"/><Relationship Id="rId41" Type="http://schemas.openxmlformats.org/officeDocument/2006/relationships/slide" Target="slide31.xml"/><Relationship Id="rId42" Type="http://schemas.openxmlformats.org/officeDocument/2006/relationships/slide" Target="slide30.xml"/><Relationship Id="rId43" Type="http://schemas.openxmlformats.org/officeDocument/2006/relationships/slide" Target="slide30.xml"/><Relationship Id="rId44" Type="http://schemas.openxmlformats.org/officeDocument/2006/relationships/slide" Target="slide29.xml"/><Relationship Id="rId45" Type="http://schemas.openxmlformats.org/officeDocument/2006/relationships/slide" Target="slide28.xml"/><Relationship Id="rId46" Type="http://schemas.openxmlformats.org/officeDocument/2006/relationships/oleObject" Target="../embeddings/oleObject1.bin"/><Relationship Id="rId47" Type="http://schemas.openxmlformats.org/officeDocument/2006/relationships/image" Target="../media/image2.png"/><Relationship Id="rId4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audio" Target="../media/thinktheme%5B1%5D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audio" Target="../media/timesup%5B1%5D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1752480"/>
            <a:ext cx="80010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ocial Sci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emester 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p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51040" y="2419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236232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general cultural trait that exists in all cul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9040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209680" y="380880"/>
            <a:ext cx="4419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EG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30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45720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ultural univers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27360" y="3562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20574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reading of cultural elements from one culture to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2352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666880" y="457200"/>
            <a:ext cx="39625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EG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40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365760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ltural Dif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70160" y="2038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23623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form of government is when the central government and state governments have p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23520" y="56386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352680" y="457200"/>
            <a:ext cx="33530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EG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50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396252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ederalism (US has th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46480" y="3257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3505320"/>
            <a:ext cx="6916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18600" y="60199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895480" y="0"/>
            <a:ext cx="26672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A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00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5909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se people use fear to get what they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49528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rror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46480" y="2800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2514600"/>
            <a:ext cx="716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9000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124080" y="533520"/>
            <a:ext cx="2667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N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2133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occurs in areas where city development increases without planned grow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41148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ban Spraw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22440" y="3562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235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438280" y="380880"/>
            <a:ext cx="32767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N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2133720"/>
            <a:ext cx="403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when one group gives up their culture to fit into the larger 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42670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simi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51040" y="3638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7088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057400" y="380880"/>
            <a:ext cx="5029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N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1447920" y="22860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describes a type of community where people live and work in the same area and it is well-plan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41148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stainable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95480" y="3048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949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057400" y="380880"/>
            <a:ext cx="33526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N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41148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F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259092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the name of the trade agreement between the US, Canada, and Mex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9040" y="12700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422440" y="1504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09760" y="2043000"/>
            <a:ext cx="621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the largest country in Latin Ame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47200" y="60199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atin Am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1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3809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raz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9158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498760" y="15811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17524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mountain range runs down the western coastline of South Ame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70880" y="60199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atin Am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2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3809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82840" y="6095880"/>
            <a:ext cx="4149360" cy="5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Final Jeopardy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16002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0"/>
            <a:ext cx="16002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01000" y="0"/>
            <a:ext cx="11430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0"/>
            <a:ext cx="16002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0"/>
            <a:ext cx="16002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4" action="ppaction://hlinksldjump"/>
          </p:cNvPr>
          <p:cNvSpPr/>
          <p:nvPr/>
        </p:nvSpPr>
        <p:spPr>
          <a:xfrm>
            <a:off x="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5" action="ppaction://hlinksldjump"/>
              </a:rPr>
              <a:t>5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6" action="ppaction://hlinksldjump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7" action="ppaction://hlinksldjump"/>
          </p:cNvPr>
          <p:cNvSpPr/>
          <p:nvPr/>
        </p:nvSpPr>
        <p:spPr>
          <a:xfrm>
            <a:off x="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9" action="ppaction://hlinksldjump"/>
          </p:cNvPr>
          <p:cNvSpPr/>
          <p:nvPr/>
        </p:nvSpPr>
        <p:spPr>
          <a:xfrm>
            <a:off x="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1" action="ppaction://hlinksldjump"/>
          </p:cNvPr>
          <p:cNvSpPr/>
          <p:nvPr/>
        </p:nvSpPr>
        <p:spPr>
          <a:xfrm>
            <a:off x="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3" action="ppaction://hlinksldjump"/>
          </p:cNvPr>
          <p:cNvSpPr/>
          <p:nvPr/>
        </p:nvSpPr>
        <p:spPr>
          <a:xfrm>
            <a:off x="160020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5" action="ppaction://hlinksldjump"/>
          </p:cNvPr>
          <p:cNvSpPr/>
          <p:nvPr/>
        </p:nvSpPr>
        <p:spPr>
          <a:xfrm>
            <a:off x="320040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6" action="ppaction://hlinksldjump"/>
          </p:cNvPr>
          <p:cNvSpPr/>
          <p:nvPr/>
        </p:nvSpPr>
        <p:spPr>
          <a:xfrm>
            <a:off x="480060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7" action="ppaction://hlinksldjump"/>
          </p:cNvPr>
          <p:cNvSpPr/>
          <p:nvPr/>
        </p:nvSpPr>
        <p:spPr>
          <a:xfrm>
            <a:off x="640080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8" action="ppaction://hlinksldjump"/>
          </p:cNvPr>
          <p:cNvSpPr/>
          <p:nvPr/>
        </p:nvSpPr>
        <p:spPr>
          <a:xfrm>
            <a:off x="160020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20" action="ppaction://hlinksldjump"/>
          </p:cNvPr>
          <p:cNvSpPr/>
          <p:nvPr/>
        </p:nvSpPr>
        <p:spPr>
          <a:xfrm>
            <a:off x="320040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21" action="ppaction://hlinksldjump"/>
          </p:cNvPr>
          <p:cNvSpPr/>
          <p:nvPr/>
        </p:nvSpPr>
        <p:spPr>
          <a:xfrm>
            <a:off x="480060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22" action="ppaction://hlinksldjump"/>
          </p:cNvPr>
          <p:cNvSpPr/>
          <p:nvPr/>
        </p:nvSpPr>
        <p:spPr>
          <a:xfrm>
            <a:off x="640080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23" action="ppaction://hlinksldjump"/>
          </p:cNvPr>
          <p:cNvSpPr/>
          <p:nvPr/>
        </p:nvSpPr>
        <p:spPr>
          <a:xfrm>
            <a:off x="320040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4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5" action="ppaction://hlinksldjump"/>
          </p:cNvPr>
          <p:cNvSpPr/>
          <p:nvPr/>
        </p:nvSpPr>
        <p:spPr>
          <a:xfrm>
            <a:off x="480060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27" action="ppaction://hlinksldjump"/>
          </p:cNvPr>
          <p:cNvSpPr/>
          <p:nvPr/>
        </p:nvSpPr>
        <p:spPr>
          <a:xfrm>
            <a:off x="640080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8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9" action="ppaction://hlinksldjump"/>
          </p:cNvPr>
          <p:cNvSpPr/>
          <p:nvPr/>
        </p:nvSpPr>
        <p:spPr>
          <a:xfrm>
            <a:off x="160020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3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1" action="ppaction://hlinksldjump"/>
          </p:cNvPr>
          <p:cNvSpPr/>
          <p:nvPr/>
        </p:nvSpPr>
        <p:spPr>
          <a:xfrm>
            <a:off x="160020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32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3" action="ppaction://hlinksldjump"/>
          </p:cNvPr>
          <p:cNvSpPr/>
          <p:nvPr/>
        </p:nvSpPr>
        <p:spPr>
          <a:xfrm>
            <a:off x="320040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34" action="ppaction://hlinksldjump"/>
          </p:cNvPr>
          <p:cNvSpPr/>
          <p:nvPr/>
        </p:nvSpPr>
        <p:spPr>
          <a:xfrm>
            <a:off x="480060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35" action="ppaction://hlinksldjump"/>
          </p:cNvPr>
          <p:cNvSpPr/>
          <p:nvPr/>
        </p:nvSpPr>
        <p:spPr>
          <a:xfrm>
            <a:off x="640080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36" action="ppaction://hlinksldjump"/>
          </p:cNvPr>
          <p:cNvSpPr/>
          <p:nvPr/>
        </p:nvSpPr>
        <p:spPr>
          <a:xfrm>
            <a:off x="320040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7" action="ppaction://hlinksldjump"/>
          </p:cNvPr>
          <p:cNvSpPr/>
          <p:nvPr/>
        </p:nvSpPr>
        <p:spPr>
          <a:xfrm>
            <a:off x="480060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38" action="ppaction://hlinksldjump"/>
          </p:cNvPr>
          <p:cNvSpPr/>
          <p:nvPr/>
        </p:nvSpPr>
        <p:spPr>
          <a:xfrm>
            <a:off x="640080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39" action="ppaction://hlinksldjump"/>
          </p:cNvPr>
          <p:cNvSpPr/>
          <p:nvPr/>
        </p:nvSpPr>
        <p:spPr>
          <a:xfrm>
            <a:off x="160020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40" action="ppaction://hlinksldjump"/>
          </p:cNvPr>
          <p:cNvSpPr/>
          <p:nvPr/>
        </p:nvSpPr>
        <p:spPr>
          <a:xfrm>
            <a:off x="8001000" y="5181480"/>
            <a:ext cx="11430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41" action="ppaction://hlinksldjump"/>
          </p:cNvPr>
          <p:cNvSpPr/>
          <p:nvPr/>
        </p:nvSpPr>
        <p:spPr>
          <a:xfrm>
            <a:off x="8001000" y="4495680"/>
            <a:ext cx="11430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42" action="ppaction://hlinksldjump"/>
          </p:cNvPr>
          <p:cNvSpPr/>
          <p:nvPr/>
        </p:nvSpPr>
        <p:spPr>
          <a:xfrm>
            <a:off x="8001000" y="3733920"/>
            <a:ext cx="11430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44" action="ppaction://hlinksldjump"/>
          </p:cNvPr>
          <p:cNvSpPr/>
          <p:nvPr/>
        </p:nvSpPr>
        <p:spPr>
          <a:xfrm>
            <a:off x="8001000" y="3048120"/>
            <a:ext cx="11430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45" action="ppaction://hlinksldjump"/>
          </p:cNvPr>
          <p:cNvSpPr/>
          <p:nvPr/>
        </p:nvSpPr>
        <p:spPr>
          <a:xfrm>
            <a:off x="8001000" y="2438280"/>
            <a:ext cx="11430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0"/>
            <a:ext cx="16002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38080" y="6324480"/>
          <a:ext cx="304920" cy="30492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838080" y="63244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651040" y="4324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6019920"/>
            <a:ext cx="1043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atin Am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3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23623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urism is a growing industry, especially in these two areas (regions) of Latin Ame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05120" y="3886200"/>
            <a:ext cx="487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xico and the Caribb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270160" y="3790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18600" y="60958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atin Am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4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17524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azil was colonized by this group of peo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73392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rtugu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727360" y="41720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4720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362320" y="304920"/>
            <a:ext cx="4228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atin Am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5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19051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y was Panama a good country to build a canal that connects the Atlantic to the Pacif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00400" y="41148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09960" y="604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32280" y="14288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4228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urop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"/>
          <p:cNvSpPr/>
          <p:nvPr/>
        </p:nvSpPr>
        <p:spPr>
          <a:xfrm>
            <a:off x="2133720" y="190512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a brown haze created when gases react with sun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m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75080" y="2647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949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urop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21337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group was formed to secure a lasting peace in Europe after World War I and World War II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40384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ropean 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75040" y="604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55960" y="34862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7088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urop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75248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s country was torn apart by conflict in the 1990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ugosla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51040" y="34099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7088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urop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198108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se are the two most dominant countries of Western Euro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41148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ermany and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75080" y="3409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94920" y="56386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urop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9051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were the three ways in which other countries reacted to Serbia’s actions in the 1990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09680" y="3276720"/>
            <a:ext cx="4343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conomic boyco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got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ilitary inter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46400" y="1619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965240" y="22669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4720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ussi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0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25146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ich mountain range separates the Northern European and Siberian Plains in Russ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9625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ral Mount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117880" y="3562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720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ussi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0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19810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s is an economy in which the central government makes all the decisions about a country’s economic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396252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mmand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362320" y="380880"/>
            <a:ext cx="3581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EG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100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7115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icago’s location of 42°N, 88°W is an example of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7088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37339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solute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575080" y="3790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70880" y="548640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ussi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0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19810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s was used by Russian leaders as part of their move from a command economy to a capitalist econom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05320" y="40384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ivat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727360" y="3257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4920" y="548640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ussi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0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1981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ich leader gave more economic and political freedom in the Soviet Un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43200" y="396252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ikhail Gorbach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565440" y="4400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46480" y="3105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94920" y="53341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ussi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0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1828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atvia, Lithuania, and Estonia are known as this re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95480" y="3429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altic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152640" cy="1522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33520" y="19810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problems occurred after the break-up of the Soviet Un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65240" y="285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038480" y="6338880"/>
            <a:ext cx="1067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33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981080" y="380880"/>
            <a:ext cx="50673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inal 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819520" y="3048120"/>
            <a:ext cx="360360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ime is up!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514600" y="5638680"/>
            <a:ext cx="4257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You have 20 seconds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0" name=""/>
          <p:cNvSpPr/>
          <p:nvPr/>
        </p:nvSpPr>
        <p:spPr>
          <a:xfrm>
            <a:off x="990720" y="44197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flicts in the Caucasus, crime (mafia), struggling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25800" y="44355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84280" y="43974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hinktheme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84360" y="895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228600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geographical theme that is expressed in terms of physical and human characteris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235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743200" y="457200"/>
            <a:ext cx="3276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EG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200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472428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38862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65240" y="895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35000" y="2712960"/>
            <a:ext cx="527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70880" y="60199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124080" y="533520"/>
            <a:ext cx="3276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EG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300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22096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theory of the origins of government sees government rulers as representatives of G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36576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vine Righ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55760" y="2495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2133720"/>
            <a:ext cx="521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9492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EG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400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182880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prime minister is the chief executive of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396252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parliamentary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75080" y="1962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2362320"/>
            <a:ext cx="5790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949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EG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500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175248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 this type of government there is only one branch of gover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4191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itary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17880" y="3562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2514600"/>
            <a:ext cx="586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949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371600" y="380880"/>
            <a:ext cx="51055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EG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0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362320"/>
            <a:ext cx="556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 idea that is composed of knowledge, attitudes, and behaviors of a specific group is known as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41148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22096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economy is a system in which the major economic decisions are made by the central gover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70880" y="56386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057400" y="380880"/>
            <a:ext cx="4572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EG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20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36576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mand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7T16:43:42Z</dcterms:created>
  <dc:creator>IPSD 204</dc:creator>
  <dc:description/>
  <dc:language>en-US</dc:language>
  <cp:lastModifiedBy>Buffalo Grove High School</cp:lastModifiedBy>
  <cp:lastPrinted>2003-09-29T17:45:32Z</cp:lastPrinted>
  <dcterms:modified xsi:type="dcterms:W3CDTF">2008-01-15T14:19:21Z</dcterms:modified>
  <cp:revision>126</cp:revision>
  <dc:subject/>
  <dc:title>No Slide Title</dc:title>
</cp:coreProperties>
</file>